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E0D-362F-4F96-A343-17B6261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F53-A3F6-4395-900B-450C5FBE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840-4DC2-4A91-AEE2-6E3E89A5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989-EF42-47D5-B699-4A635572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A5F-1E90-483C-BC16-DCFA85B1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1AE-363F-4E67-BEA4-BB69BEE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3538-0BA0-4115-B484-AD7EF359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6D7-0C2B-4A07-9ACE-11328F66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744-C1BA-4D83-8A32-1E4AC71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5D8-A1BE-47FC-A1AC-A53D79E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3301-CFDE-44E9-A173-390C99B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68F-A726-4782-9A9A-9E0F2C6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F693-9F0E-4D87-84CA-610B4BC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F584-846B-4EBF-889A-D1DF367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DA0E-BF96-4C86-8911-0DABD4C3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82B-DFC4-4A5C-8E9A-98EAE499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EAE4-B073-4005-A4A2-2220AB3F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47B-D1F5-4260-AB8F-75F10F18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06E-22CE-4227-BC7C-9EE68ED8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ECA-BFF6-4150-9503-D660B95E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99D-1933-4249-96C0-8DBBF79F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E4F-59F6-4627-B919-85302AF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AAF-338E-4E20-A622-AAA8687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C5B-3927-41B9-BF75-891851D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52FE-1E2C-4C86-8938-2A3BDD146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1EF-D866-4B53-ADC8-A0AB4D2DCA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DPCO30/Departamentos/SV-INS/DOCUME~1/DOCUME~1/rnavarro/COSANO/Mis%20documentos/SELECTIVIDAD%202009%20Y%202010/Mi%20m&#250;sica/BANDAS%20SONORAS/05%20miguel%20bos&#233;%20con%20noa%20-%20la%20vida%20es%20bella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istritounicoandaluz.cica.es/" TargetMode="External"/><Relationship Id="rId2" Type="http://schemas.openxmlformats.org/officeDocument/2006/relationships/hyperlink" Target="http://distritounicoandaluz.cica.es/" TargetMode="External"/><Relationship Id="rId3" Type="http://schemas.openxmlformats.org/officeDocument/2006/relationships/hyperlink" Target="http://distritounicoandaluz.cica.es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755640" y="2852640"/>
            <a:ext cx="7777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RUEBA DE ACCESO A LA UNIVERSIDAD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ARA QUIENES SE ENCUENTREN EN POSESIÓN DEL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Verdana"/>
                <a:hlinkClick r:id="rId1"/>
              </a:rPr>
              <a:t>TÍTULO DE BACHILLERATO O EQUIVALENT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643280" y="5445000"/>
            <a:ext cx="38419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908000" y="4133880"/>
            <a:ext cx="5185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00000"/>
                </a:solidFill>
                <a:latin typeface="Verdana"/>
              </a:rPr>
              <a:t>Cap. 2 del R.D. 1892/2008</a:t>
            </a:r>
            <a:r>
              <a:rPr b="1" i="1" lang="es-ES" sz="1400" spc="-1" strike="noStrike">
                <a:solidFill>
                  <a:srgbClr val="8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(B.O.E. nº 283, de 24 de noviembre de 2008,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con las correcciones realizadas en los B.O.E.s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de 28 de marzo y de 25 de julio de 2009)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7" name="Picture 1026" descr="anagramajunta"/>
          <p:cNvPicPr/>
          <p:nvPr/>
        </p:nvPicPr>
        <p:blipFill>
          <a:blip r:embed="rId2"/>
          <a:stretch/>
        </p:blipFill>
        <p:spPr>
          <a:xfrm>
            <a:off x="838080" y="380880"/>
            <a:ext cx="1881360" cy="16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507F-374A-4ABE-9947-FDBD1F3FC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835280" y="2917800"/>
            <a:ext cx="5616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6" name="Picture 96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9100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5" descr=""/>
          <p:cNvPicPr/>
          <p:nvPr/>
        </p:nvPicPr>
        <p:blipFill>
          <a:blip r:embed="rId2"/>
          <a:stretch/>
        </p:blipFill>
        <p:spPr>
          <a:xfrm>
            <a:off x="1835280" y="234936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4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3" descr=""/>
          <p:cNvPicPr/>
          <p:nvPr/>
        </p:nvPicPr>
        <p:blipFill>
          <a:blip r:embed="rId4"/>
          <a:stretch/>
        </p:blipFill>
        <p:spPr>
          <a:xfrm>
            <a:off x="1835280" y="321300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2" descr=""/>
          <p:cNvPicPr/>
          <p:nvPr/>
        </p:nvPicPr>
        <p:blipFill>
          <a:blip r:embed="rId5"/>
          <a:stretch/>
        </p:blipFill>
        <p:spPr>
          <a:xfrm>
            <a:off x="1835280" y="364500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1" descr=""/>
          <p:cNvPicPr/>
          <p:nvPr/>
        </p:nvPicPr>
        <p:blipFill>
          <a:blip r:embed="rId6"/>
          <a:stretch/>
        </p:blipFill>
        <p:spPr>
          <a:xfrm>
            <a:off x="1835280" y="407664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0" descr=""/>
          <p:cNvPicPr/>
          <p:nvPr/>
        </p:nvPicPr>
        <p:blipFill>
          <a:blip r:embed="rId7"/>
          <a:stretch/>
        </p:blipFill>
        <p:spPr>
          <a:xfrm>
            <a:off x="1835280" y="4508640"/>
            <a:ext cx="539100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9" descr=""/>
          <p:cNvPicPr/>
          <p:nvPr/>
        </p:nvPicPr>
        <p:blipFill>
          <a:blip r:embed="rId8"/>
          <a:stretch/>
        </p:blipFill>
        <p:spPr>
          <a:xfrm>
            <a:off x="1835280" y="4941720"/>
            <a:ext cx="5391000" cy="162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Rectangle 98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Rectangle 99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Rectangle 100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Rectangle 101"/>
          <p:cNvSpPr/>
          <p:nvPr/>
        </p:nvSpPr>
        <p:spPr>
          <a:xfrm>
            <a:off x="-10800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Rectangle 102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Rectangle 103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Rectangle 104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Text Box 105"/>
          <p:cNvSpPr/>
          <p:nvPr/>
        </p:nvSpPr>
        <p:spPr>
          <a:xfrm>
            <a:off x="4156200" y="147492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Text Box 110"/>
          <p:cNvSpPr/>
          <p:nvPr/>
        </p:nvSpPr>
        <p:spPr>
          <a:xfrm>
            <a:off x="3027600" y="1442880"/>
            <a:ext cx="2860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ALENDARIO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RECLAM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Cada estudiante podrá, sobre la calificación otorgada tras la primera corrección, prese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800000"/>
                </a:solidFill>
                <a:latin typeface="Arial"/>
              </a:rPr>
              <a:t>la solicitud de una segunda corrección de los ejercicios en los que considere incorrecta la aplicación de los criterios generales de evaluación y específicos de corrección y calific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800000"/>
                </a:solidFill>
                <a:latin typeface="Arial"/>
              </a:rPr>
              <a:t>la solicitud de reclamación ante la comisión organizadora en cuyo caso quedará excluida la posibilidad de solicitar la segunda correc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El plazo de presentación:tres días hábiles, contados a partir de la fecha de la publicación de las calific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SOLICITUD DE RECLA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os ejercicios sobre los que se haya presentado la solicitud de reclamación serán revisados con el objeto de verificar que todas las cuestiones han sido evaluadas y lo han sido con una correcta aplicación de los criterios generales de evaluación y específicos de corrección, así como la comprobación de que no existen errores materiales en el proceso del cálculo de la calificació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Solicitud de segunda corre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os ejercicios sobre los que se haya presentado serán corregidos por un profesor especialista distinto al que realizó la primera cor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a calificación será la media aritmética de las calificaciones obtenidas en las dos correc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 existiera una diferencia de dos o más puntos entre las dos calificaciones, se efectuará, de oficio, una tercera corrección, La calificación final será la media aritmética de las tres cal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berá efectuarse en el plazo máximo de cinco días háb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obre la calificación otorgada tras el proceso de doble corrección  se podrá presentar reclamación ante la comisión organizadora, en el plazo de tres días hábiles,  a partir de la fecha en que se hagan públicas las cal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l estudiante tendrá derecho a ver el examen corregido tras la segunda corrección, en el plazo de 5 dí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a comisión organizadora adoptará las resoluciones que establezcan formalmente las calificaciones definitivas de los ejercicios cuya corrección hubiera sido recurrida y las notificará a los reclam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352-F85C-49D1-8C2F-0071EBBBC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2" name="Picture 4" descr="Procedimiento_Reclamaciones"/>
          <p:cNvPicPr/>
          <p:nvPr/>
        </p:nvPicPr>
        <p:blipFill>
          <a:blip r:embed="rId1"/>
          <a:stretch/>
        </p:blipFill>
        <p:spPr>
          <a:xfrm>
            <a:off x="2050920" y="620640"/>
            <a:ext cx="5322960" cy="6889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050920" y="333360"/>
            <a:ext cx="482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CUADRO SOBRE EL PROCEDIMIENTO DE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DOBLE CORRECCIÓN Y RECLAMACIÓN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4" name="Picture 4" descr="Procedimiento_Reclamaciones"/>
          <p:cNvPicPr/>
          <p:nvPr/>
        </p:nvPicPr>
        <p:blipFill>
          <a:blip r:embed="rId2"/>
          <a:stretch/>
        </p:blipFill>
        <p:spPr>
          <a:xfrm>
            <a:off x="2050920" y="907920"/>
            <a:ext cx="5322960" cy="689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8E5-E064-472D-ABAF-B647FABB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6" name="Picture 4" descr="Calendario_Reclamaciones 1"/>
          <p:cNvPicPr/>
          <p:nvPr/>
        </p:nvPicPr>
        <p:blipFill>
          <a:blip r:embed="rId1"/>
          <a:stretch/>
        </p:blipFill>
        <p:spPr>
          <a:xfrm>
            <a:off x="1187280" y="981000"/>
            <a:ext cx="6770880" cy="8763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242000" y="189000"/>
            <a:ext cx="6690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3.12 CALENDARIO DE RECLAMACION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F4C9-D3B5-4BC4-9C1E-DA1B9F0F1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99"/>
                </a:solidFill>
                <a:latin typeface="Verdana"/>
              </a:rPr>
              <a:t>ADMISIÓN A LAS UNIVERSIDADES PÚBLICAS ESPAÑO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istrit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Los alumnos pueden solicitar plaza en cualquier Universidad Españo-la, con independencia de aquélla en la que ha superado la Prueba de Acceso (Selectivida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istrito Único Anda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Las Universidades Andaluzas se constituyen en “una única Univer-sidad” a efectos de Ad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EI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Una única solicitud para todas las Universidades Andaluzas.</a:t>
            </a: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Orden de preferencia vinculante. No se puede alterar una vez que finaliza el plazo de Preinscrip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Presentación de Preinscripción (!SÓLO POR INTERNE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distritounicoandaluz.cic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www.uco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FC4-06F5-4409-A0FB-250EAB3D0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Verdana"/>
              </a:rPr>
              <a:t>CUPOS DE RESERVA DE PLAZ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Mayores de 25 años (mínimo del 2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Mayores de 40 años (entre el 1% y el 3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Estudiantes con discapacidad (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Deportistas de alto nivel y alto rendimiento (mínimo del 3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Titulados universitarios (entre el 1% y el 3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SELECTIVIDAD Y C.F.G.S. CONCURREN EN EL MISMO C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84360" y="4365720"/>
            <a:ext cx="8280360" cy="184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386-9B59-4A14-A23E-66C31394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ACCESO Y ADMISIÓN EN LA</a:t>
            </a:r>
            <a:br>
              <a:rPr sz="2500"/>
            </a:b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UNIVERSIDAD ESPAÑOLA</a:t>
            </a:r>
            <a:br>
              <a:rPr sz="2500"/>
            </a:b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A PARTIR DEL CURSO 2009-20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Prueba de Acceso a la Universidad  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(Selectiv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8D5-7BAB-4AA9-B821-A9ADA89FC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Verdana"/>
              </a:rPr>
              <a:t>1. PRUEBA DE ACCESO A LA UNIVERSIDAD (SELECTIVIDAD)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.1. Cuestiones de carácter gener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Verdana"/>
              </a:rPr>
              <a:t>Los alumnos con título de Bachiller o equivalente tendrán que superar la Prueba de Acceso, a la que se refiere el Ca-pítulo II del REAL DECRETO 1892/2008, para poder acce-der a enseñanzas universitarias oficiales de G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Verdana"/>
              </a:rPr>
              <a:t>Dos convocatoria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Verdana"/>
              </a:rPr>
              <a:t>No se establece límite de convocatorias para superar la Prue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Verdana"/>
              </a:rPr>
              <a:t>Estructura de la Prueba: Fase General y Fase Especí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Verdana"/>
              </a:rPr>
              <a:t>Los alumnos podrán presentarse a exámenes de materias que no hayan cur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D9C-05C7-416D-97DA-44BB8820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TRUCTURA DE LA PRUEB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88920" y="1557360"/>
            <a:ext cx="3105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ASE GENERAL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obligatoria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167080" y="1628640"/>
            <a:ext cx="29120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ASE ESPECÍFICA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voluntaria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846000" y="2565360"/>
            <a:ext cx="3140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mentario de Texto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844560" y="3213000"/>
            <a:ext cx="33084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istoria de la Filosofía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istoria de España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918000" y="4365720"/>
            <a:ext cx="2860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ua Extranjera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916920" y="4941720"/>
            <a:ext cx="338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Materia de Modalidad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386240" y="2997360"/>
            <a:ext cx="39988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Arial"/>
              </a:rPr>
              <a:t>Materias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Arial"/>
              </a:rPr>
              <a:t>Modalidad (distintas d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Arial"/>
              </a:rPr>
              <a:t>la de la fase general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FCE-F017-4D4E-99AC-E643D4CB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ahoma"/>
              </a:rPr>
              <a:t>FASE GENERAL (OBLIGATORIA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omentario 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cionado con capacida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contenidos de la materia de Lengua Castellana y Lit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os opciones de exa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a elegir u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Historia de la Filosof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Historia de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os opciones de examen en cada ca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a elegir u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1 Materia de Mod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72200" y="4292640"/>
            <a:ext cx="3213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Lengua Extranjera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826920" y="5084640"/>
            <a:ext cx="32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os opciones de examen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a elegir una)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003640" y="5013360"/>
            <a:ext cx="32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os opciones de examen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a elegir una)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997280" y="5950080"/>
            <a:ext cx="507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uración de los ejercicios: 1 h. y 30 m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uración del descanso: 45 m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853-0735-484A-B773-AC277532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UPERACIÓN DE LA PRUEB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alificación de la Fase General será la media arit-mética de las calificaciones de los cuatro ejerc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supera la Prueba de Acceso cuando se dan las dos siguientes 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FG ≥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0,6*NMB + 0,4*CFG ≥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FG.- Calificación Fase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NMB.- Nota Media de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YA HAY ACCESO A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73F-4AEB-4CD6-B60F-FA460DAE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FASE ESPECÍFICA (VOLUNT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da estudiante se podrá examinar de cualquiera de las materias de modalidad de segundo de Bachillera-to, distintas de la materia elegida para el cuarto ejer-cicio de la Fas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os ejercicios de cada materia habrá una única opción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considerará superada la materia cuando se ob-tenga una calificación igual o superior a 5 pu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55640" y="5229360"/>
            <a:ext cx="7920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BE98-EBE4-48D9-A379-917DEBBF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Verdana"/>
              </a:rPr>
              <a:t>VALIDEZ DE LA PRUEB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LA SUPERACIÓN DE LA FASE GENERAL TIENE VALI-DEZ INDEFIN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LAS CALIFICACIONES DE LAS MATERIAS DE LA FASE ESPECÍFICA TIENEN VALIDEZ SÓLO DURANTE LOS DOS CURSOS ACADÉMICOS SIGUIENTES A LA SUPE-RACIÓN DE LAS MIS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LOS ESTUDIANTES PODRÁN PRESENTARSE EN SUCE-SIVAS CONVOCATORIAS PARA MEJORAR LA NOTA, TANTO DE LA FASE GENERAL COMO DE LA FASE ESPE-CÍ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E2BA-FFC0-4E91-AE84-9A98DB25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OTRAS CONSID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Verdana"/>
              </a:rPr>
              <a:t>DISPOSICIÓN FINAL SEG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Verdana"/>
              </a:rPr>
              <a:t>EJERCICIO DE LENGU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tercer ejercicio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 de Lengua Extranjera no incluirá la valora-ción de la comprensión y expresión oral hasta dos cursos des-pués de la implantación del Bachillerato establecido en la Ley Orgánica 2/2006, de 3 de mayo, de Educación, es decir, en el curso académico 2011-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Dos años antes de la implantación de la </a:t>
            </a: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prueba oral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 se realiza-rá un estudio para determinar las características específicas de la prueba y, en su caso, tomar las decisiones oportunas sobre su impla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53:12Z</dcterms:created>
  <dc:creator>HP COSANO</dc:creator>
  <dc:description/>
  <dc:language>en-US</dc:language>
  <cp:lastModifiedBy>jbolance</cp:lastModifiedBy>
  <dcterms:modified xsi:type="dcterms:W3CDTF">2010-05-03T07:24:59Z</dcterms:modified>
  <cp:revision>60</cp:revision>
  <dc:subject/>
  <dc:title>Diapositiva 1</dc:title>
</cp:coreProperties>
</file>